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B509-C6EB-4AC9-A310-AF5679F8A3C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what body temperature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is is usually higher tha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if your body temperature 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,you are 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sweating decreases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body temperature 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this is usually higher tha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rmal,you are i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Powerpoint is hosted on www.worldofteaching.c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ease visit for 100’s more free power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ing Body Temperatur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ain contro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are hot,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mak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e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is coo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are cold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ain makes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shiver and th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s us heat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ing Body Temperature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rain contro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are hot,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 mak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e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this coo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are cold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rain makes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shiver and th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s us heat u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4                     Diet and Alcohol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what makes up a healthy di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ating too much can causes hear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ating causes anorexi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alcohol consumption can aff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4                     Diet and Alcohol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makes up a healthy di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eating too much can causes hear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eating causes anorexia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alcohol consumption can affec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havi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t and Alcohol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many alcohol units are contained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drin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how many alcohol units are in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tle of alcoh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information on alcohol in graph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4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et and Alcohol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many alcohol units are contained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drink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culate how many alcohol units are in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ttle of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esent information on alcohol in graph for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should contain the following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should contain the following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foods that are quite high in energ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good for storing energy during wint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t is nee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many fat based foods can make peopl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also cause cholesterol in the vein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ies which cause them to fur up like blockages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foods that are quite high in energ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e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are good for storing energy during wint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it is need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o many fat based foods can make peopl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be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can also cause cholesterol in the vein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teries which cause them to fur up like blockages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starch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like brea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atoes and past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a g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 of energ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lories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m can be burned of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ck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 they appear as fat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starch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s like brea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tatoes and pasta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are a g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rce of energy 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alories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m can be burned of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ick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not they appear as fat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used for the growth and repair of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iss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 deficiency can result in malnutr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supplies or alternatives give us ou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y of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4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used for the growth and repair of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issu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 deficiency can result in malnutri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at supplies or alternatives give us ou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pply of prot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5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consist o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, B ,C ,D E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nd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se pla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arts i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 of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icture shown is th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bones o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with ricket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ccurs through lac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tamin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5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onsist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 A, B ,C ,D E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and 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 of these pla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t parts i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 of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icture shown is th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the bones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one with ricket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occurs through lack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vitamin 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6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salts that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ed by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calciu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milk for bon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ons and oth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conta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6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salts that a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eded by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xample,calciu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om milk for bon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ow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lons and oth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uits conta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l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d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fatty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ch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m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od Triang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gary foo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ats and fatty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getables and frui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rchy foo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mo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vering increases 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supplies the body with energy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 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es help stop heat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bility to maintain body temperatu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to save a person suffering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thes help stop heat lo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ability to maintain body temperatu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us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to save a person suffering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too mu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ies burn up the food we 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ives us energy for our muscles t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re our muscles work,the more energ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od we n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more food than we need,the extra 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ed into f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ing fat is unhealthy and affects our he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ies burn up the food we 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gives us energy for our muscles to wor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re our muscles work,the more energ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food we ne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we eat more food than we need,the extra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rned into f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ing fat is unhealthy and affects our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too much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needs mo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eats more 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would you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ct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er?Expl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would it be ba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erson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w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uld they do to lo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energy K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ea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needs mo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eats more foo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would you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pect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ter?Expl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y would it be ba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person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w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could they do to los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energy Kj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a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eat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need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rex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serious eating disorder which mainl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s young gir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bulimia,another eating dis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rexics believe they need to lose weight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ally diet to do 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psychological problem and in extrem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s can lead to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rex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 serious eating disorder which main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fects young gir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related to bulimia,another eating dis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rexics believe they need to lose weight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inually diet to do s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a psychological problem and in extrem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ses can lead to dea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ffects of alcohol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is a dr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ffects your brain by block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sages to your sen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slows down your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is measured in un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unit of alcohol consists of  a) a smal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sky, b)a glass of wine, c) a half pint of beer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ffects of alcohol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s a dru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ffects your brain by bloc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ssages to your sens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slows down your reac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s measured in uni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unit of alcohol consists of  a) a small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sky, b)a glass of wine, c) a half pint of beer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s of alcohol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problems at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mood chang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money trou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affect personal safe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death in extrem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ffects of alcohol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problems at wor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mood changes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press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money troub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affect personal safet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death in extrem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s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name 3 aspects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regular exercise improves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describe the differences betwee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aspects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5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name 3 aspects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regular exercise improves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describe the differences betwee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 aspects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1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mina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be described as having staying po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in which you need to have stami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swimming ,jogging , rowing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and lungs need to be in good work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very rate is usually quick from exerc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1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mina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can be described as having staying pow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in which you need to have stamin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lude swimming ,jogging , rowing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ycl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eart and lungs need to be in good wor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covery rate is usually quick from exerci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scles need to be strong and in g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ing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include  weight lifting, rowing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mming and gymnas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uscles need to be strong and in g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king 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include  weight lifting, rowing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imming and gymnasti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e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dy can be capable of being moved in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ositions without being sti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of stretching exercises are needed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 this aspect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needing suppleness include dancing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mnastics, judo, swimming and yog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pple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dy can be capable of being moved in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t positions without being stiff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ts of stretching exercises are needed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prove this aspect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needing suppleness include dancing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ymnastics, judo, swimming and yog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 Blooded Animals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like lizard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not make enoug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from their f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nable them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er than thei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is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thei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d  Blooded Animals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imals like lizard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not make enough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t from their f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enable them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er than the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ir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 is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e as the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Blooded Animals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end to be more active during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ropical fish from the Amazon woul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survive in Scot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d Blooded Animals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tend to be more active during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tropical fish from the Amazon woul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survive in Scotlan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Animals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lik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ma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body at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n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where the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Animals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imals lik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mma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ee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ir body at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stan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 n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 where the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Animals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s are warm blooded animal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 constant temperature of 37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ies are able to make and lose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lose excess heat by sweating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Animals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umans are warm blooded animals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ave a constant temperature of 37 C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ies are able to make and lose h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 can lose excess heat by sweating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r body temperature goes above 37 C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you are suffering from a fe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tend to sweat a lot as the body tries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your temperature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creases in temperature are caused b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ev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your body temperature goes above 37 C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n you are suffering from a fev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tend to sweat a lot as the body tries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ing your temperature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st increases in temperature are caused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fe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appens when the body falls below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rtain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ody is too low in temperature 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long, it can result in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mostly occurs with elderl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1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happens when the body falls below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rtain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the body is too low in temperature fo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o long, it can result in dea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mostly occurs with elder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are signs of hypothermia and actions to be t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urring of spee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ly ina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n becom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 to rea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t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usual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ap in war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nk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a war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eet drink bu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coh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,4,5 Increase ro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heating slow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llowing are signs of hypothermia and actions to be tak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urring of spee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ysically inactiv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kin becom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 to reac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tal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usual behavi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ap in war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ank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ive a war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eet drink bu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,4,5 Increase ro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heating slow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CE31-BAA2-4012-AB3C-1733F968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66DB-B4DE-4449-917F-60880870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02AB-DA3B-4F55-8E64-BA3EEF2B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E2C5-EDD7-442F-A684-A0039473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0D16-CFA7-4FAC-AC3F-0E6EC9C7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F589-89FE-495B-8BDD-C705770A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6379-7827-4A1A-8613-A0EDEA0F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6457-52CA-419F-A806-454C8A29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5962-1A3D-4A97-9369-15B0D3A4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2BBE-5F1B-4B94-A095-0863F1F6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779A-D87B-4A87-98A2-894CB67C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6D66-4A71-4298-A119-FB0E7DC2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4292-7110-4F6F-8CC0-EFE238DF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1702-EB0C-4E86-A9BF-F281CBE8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6D79-A96B-4643-8F28-61809D37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1080-8479-4389-86C0-DF5B2071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8051-0703-4FB0-949B-045D507D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6193-6905-40DD-BF2F-72A7E0AF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1BCC-B0BE-4DA8-8505-C9C44730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C8BE-DABA-49C5-924A-B541FBB4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462B-638A-4C7B-A91C-508ACFC3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A7DC-9712-4222-8A1F-3AD1F6F7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E48E-8AA9-478A-8FED-C1273A3F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6E16-BB85-4D44-B7CC-C4A718BD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1028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1029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1030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1031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1032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1033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34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035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036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037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038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039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040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042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043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1045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1046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1047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EEA3-F2E3-43A9-B5D9-A2A408C030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362F-33F0-4446-BA24-F6BA9D144079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ody Temperature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at body temperature 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this is usually higher than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rmal,you are i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Maintaining Body Temperature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rain contro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we are hot,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rain make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our bod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wea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d this coo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s dow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we are cold,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rain makes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 shiver and thi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kes us heat u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4                     Diet and Alcohol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802720" cy="39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at makes up a healthy di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eating too much can causes hear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eating causes anorexia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alcohol consumption can affec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havi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4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Diet and Alcohol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many alcohol units are contained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mmon drink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lculate how many alcohol units are in a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ottle of alcoh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esent information on alcohol in graph fo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balanced diet should contain the following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itami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 Balanced Diet 2.</a:t>
            </a:r>
            <a:br>
              <a:rPr sz="2400"/>
            </a:b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se are foods that are quite high in energy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conten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y are good for storing energy during winter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when it is needed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oo many fat based foods can make people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obes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y can also cause cholesterol in the veins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arteries which cause them to fur up like blockages in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pip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se are starchy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foods like bread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otatoes and past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y are a good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ource of energy 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calories from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m can be burned of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quickl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If not they appear as fat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4659480" y="2116080"/>
            <a:ext cx="4371840" cy="41353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4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802720" cy="38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are used for the growth and repair of   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ody tissu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otein deficiency can result in malnutri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eat supplies or alternatives give us ou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pply of protei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5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Vitamin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4371840" cy="41353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se consist o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vitamins A, B ,C ,D E,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 and 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ll of these play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fferent parts in the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health of the bod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picture shown is that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of the bones o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omeone with rickets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which occurs through lack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of vitamin 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6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se are salts that ar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needed by the 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or example,calciu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rom milk for bon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growt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lons and othe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ruits contai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ineral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l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4800600" y="2552760"/>
            <a:ext cx="3886200" cy="34718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Food Triangl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gary foo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ats and fatty aci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getables and fru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tarchy foo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Line 5"/>
          <p:cNvSpPr/>
          <p:nvPr/>
        </p:nvSpPr>
        <p:spPr>
          <a:xfrm flipH="1">
            <a:off x="5181120" y="2743200"/>
            <a:ext cx="1600200" cy="28195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5943600" y="4191120"/>
            <a:ext cx="15238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5562720" y="4952880"/>
            <a:ext cx="22860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8534520" y="2743200"/>
            <a:ext cx="0" cy="28195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20"/>
          <p:cNvSpPr/>
          <p:nvPr/>
        </p:nvSpPr>
        <p:spPr>
          <a:xfrm>
            <a:off x="7984080" y="225108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6615360" y="301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6615360" y="362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669132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6615360" y="491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Line 26"/>
          <p:cNvSpPr/>
          <p:nvPr/>
        </p:nvSpPr>
        <p:spPr>
          <a:xfrm flipV="1">
            <a:off x="8534520" y="5181120"/>
            <a:ext cx="30456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66720" y="2057040"/>
            <a:ext cx="4876920" cy="42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Line 29"/>
          <p:cNvSpPr/>
          <p:nvPr/>
        </p:nvSpPr>
        <p:spPr>
          <a:xfrm flipH="1" flipV="1">
            <a:off x="8152920" y="5181120"/>
            <a:ext cx="38124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7832520" y="575640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t mo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Line 32"/>
          <p:cNvSpPr/>
          <p:nvPr/>
        </p:nvSpPr>
        <p:spPr>
          <a:xfrm>
            <a:off x="5257800" y="5486400"/>
            <a:ext cx="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Line 33"/>
          <p:cNvSpPr/>
          <p:nvPr/>
        </p:nvSpPr>
        <p:spPr>
          <a:xfrm>
            <a:off x="6781680" y="2743200"/>
            <a:ext cx="1219320" cy="27432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Line 35"/>
          <p:cNvSpPr/>
          <p:nvPr/>
        </p:nvSpPr>
        <p:spPr>
          <a:xfrm>
            <a:off x="6400800" y="3429000"/>
            <a:ext cx="6858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Line 36"/>
          <p:cNvSpPr/>
          <p:nvPr/>
        </p:nvSpPr>
        <p:spPr>
          <a:xfrm>
            <a:off x="5181480" y="5486400"/>
            <a:ext cx="289584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ody Temperature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aintain body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lothes help stop heat lo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ability to maintain body temperatur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us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to save a person suffering from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ur bodies burn up the food we 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gives us energy for our muscles to wor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ore our muscles work,the more energ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food we ne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we eat more food than we need,the extra i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urned into f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ing fat is unhealthy and affects our hear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needs mor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eats more foo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would you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ect to b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tter?Explai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y would it be bad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person to b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verw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could they do to los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72160" y="2209680"/>
            <a:ext cx="437184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od energy Kj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6172200" y="2819520"/>
            <a:ext cx="0" cy="2895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6172200" y="5715000"/>
            <a:ext cx="2438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Line 8"/>
          <p:cNvSpPr/>
          <p:nvPr/>
        </p:nvSpPr>
        <p:spPr>
          <a:xfrm flipV="1">
            <a:off x="6400800" y="3352680"/>
            <a:ext cx="0" cy="2362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6400800" y="33526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13"/>
          <p:cNvSpPr/>
          <p:nvPr/>
        </p:nvSpPr>
        <p:spPr>
          <a:xfrm>
            <a:off x="6705720" y="3352680"/>
            <a:ext cx="0" cy="2362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 flipV="1">
            <a:off x="6934320" y="3123720"/>
            <a:ext cx="0" cy="2590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6934320" y="3124080"/>
            <a:ext cx="30456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20"/>
          <p:cNvSpPr/>
          <p:nvPr/>
        </p:nvSpPr>
        <p:spPr>
          <a:xfrm>
            <a:off x="7238880" y="3124080"/>
            <a:ext cx="0" cy="2514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22"/>
          <p:cNvSpPr/>
          <p:nvPr/>
        </p:nvSpPr>
        <p:spPr>
          <a:xfrm>
            <a:off x="7238880" y="5562720"/>
            <a:ext cx="0" cy="1522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Line 23"/>
          <p:cNvSpPr/>
          <p:nvPr/>
        </p:nvSpPr>
        <p:spPr>
          <a:xfrm flipV="1">
            <a:off x="7467480" y="3962520"/>
            <a:ext cx="0" cy="1752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Line 24"/>
          <p:cNvSpPr/>
          <p:nvPr/>
        </p:nvSpPr>
        <p:spPr>
          <a:xfrm>
            <a:off x="7467480" y="396252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7772400" y="3962520"/>
            <a:ext cx="0" cy="1752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Line 26"/>
          <p:cNvSpPr/>
          <p:nvPr/>
        </p:nvSpPr>
        <p:spPr>
          <a:xfrm flipV="1">
            <a:off x="8001000" y="35053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Line 29"/>
          <p:cNvSpPr/>
          <p:nvPr/>
        </p:nvSpPr>
        <p:spPr>
          <a:xfrm>
            <a:off x="8001000" y="350532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8305920" y="35053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Text Box 33"/>
          <p:cNvSpPr/>
          <p:nvPr/>
        </p:nvSpPr>
        <p:spPr>
          <a:xfrm>
            <a:off x="6233760" y="5680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Text Box 34"/>
          <p:cNvSpPr/>
          <p:nvPr/>
        </p:nvSpPr>
        <p:spPr>
          <a:xfrm>
            <a:off x="7452000" y="56800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Line 36"/>
          <p:cNvSpPr/>
          <p:nvPr/>
        </p:nvSpPr>
        <p:spPr>
          <a:xfrm flipH="1">
            <a:off x="6019560" y="312408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Line 37"/>
          <p:cNvSpPr/>
          <p:nvPr/>
        </p:nvSpPr>
        <p:spPr>
          <a:xfrm flipH="1">
            <a:off x="6019560" y="441972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Line 38"/>
          <p:cNvSpPr/>
          <p:nvPr/>
        </p:nvSpPr>
        <p:spPr>
          <a:xfrm flipH="1">
            <a:off x="6019560" y="510552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Line 39"/>
          <p:cNvSpPr/>
          <p:nvPr/>
        </p:nvSpPr>
        <p:spPr>
          <a:xfrm flipH="1">
            <a:off x="6019560" y="380988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Text Box 40"/>
          <p:cNvSpPr/>
          <p:nvPr/>
        </p:nvSpPr>
        <p:spPr>
          <a:xfrm>
            <a:off x="5015160" y="286056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0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5091120" y="354636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5091120" y="41562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0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5167440" y="4842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Line 46"/>
          <p:cNvSpPr/>
          <p:nvPr/>
        </p:nvSpPr>
        <p:spPr>
          <a:xfrm flipH="1">
            <a:off x="6934320" y="32767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Line 47"/>
          <p:cNvSpPr/>
          <p:nvPr/>
        </p:nvSpPr>
        <p:spPr>
          <a:xfrm>
            <a:off x="6934320" y="35812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Line 48"/>
          <p:cNvSpPr/>
          <p:nvPr/>
        </p:nvSpPr>
        <p:spPr>
          <a:xfrm flipH="1">
            <a:off x="6934320" y="37339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Line 49"/>
          <p:cNvSpPr/>
          <p:nvPr/>
        </p:nvSpPr>
        <p:spPr>
          <a:xfrm>
            <a:off x="6934320" y="40384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Line 50"/>
          <p:cNvSpPr/>
          <p:nvPr/>
        </p:nvSpPr>
        <p:spPr>
          <a:xfrm flipH="1">
            <a:off x="6933960" y="4267080"/>
            <a:ext cx="2286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Line 51"/>
          <p:cNvSpPr/>
          <p:nvPr/>
        </p:nvSpPr>
        <p:spPr>
          <a:xfrm>
            <a:off x="6934320" y="44956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Line 55"/>
          <p:cNvSpPr/>
          <p:nvPr/>
        </p:nvSpPr>
        <p:spPr>
          <a:xfrm flipH="1">
            <a:off x="6934320" y="464832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Line 56"/>
          <p:cNvSpPr/>
          <p:nvPr/>
        </p:nvSpPr>
        <p:spPr>
          <a:xfrm>
            <a:off x="6934320" y="487692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Line 57"/>
          <p:cNvSpPr/>
          <p:nvPr/>
        </p:nvSpPr>
        <p:spPr>
          <a:xfrm flipH="1">
            <a:off x="6934320" y="5181480"/>
            <a:ext cx="304560" cy="15264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Line 58"/>
          <p:cNvSpPr/>
          <p:nvPr/>
        </p:nvSpPr>
        <p:spPr>
          <a:xfrm>
            <a:off x="6934320" y="53341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Line 59"/>
          <p:cNvSpPr/>
          <p:nvPr/>
        </p:nvSpPr>
        <p:spPr>
          <a:xfrm>
            <a:off x="8001000" y="365760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Line 60"/>
          <p:cNvSpPr/>
          <p:nvPr/>
        </p:nvSpPr>
        <p:spPr>
          <a:xfrm flipH="1">
            <a:off x="8000640" y="3886200"/>
            <a:ext cx="30492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Line 61"/>
          <p:cNvSpPr/>
          <p:nvPr/>
        </p:nvSpPr>
        <p:spPr>
          <a:xfrm>
            <a:off x="8001000" y="4191120"/>
            <a:ext cx="30492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Line 63"/>
          <p:cNvSpPr/>
          <p:nvPr/>
        </p:nvSpPr>
        <p:spPr>
          <a:xfrm flipH="1">
            <a:off x="8000640" y="44956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Line 64"/>
          <p:cNvSpPr/>
          <p:nvPr/>
        </p:nvSpPr>
        <p:spPr>
          <a:xfrm>
            <a:off x="8001000" y="47242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Line 65"/>
          <p:cNvSpPr/>
          <p:nvPr/>
        </p:nvSpPr>
        <p:spPr>
          <a:xfrm flipH="1">
            <a:off x="8000640" y="49528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Line 66"/>
          <p:cNvSpPr/>
          <p:nvPr/>
        </p:nvSpPr>
        <p:spPr>
          <a:xfrm>
            <a:off x="8001000" y="5181480"/>
            <a:ext cx="30492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Text Box 68"/>
          <p:cNvSpPr/>
          <p:nvPr/>
        </p:nvSpPr>
        <p:spPr>
          <a:xfrm>
            <a:off x="5242320" y="621360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 eat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Rectangle 69"/>
          <p:cNvSpPr/>
          <p:nvPr/>
        </p:nvSpPr>
        <p:spPr>
          <a:xfrm>
            <a:off x="6858000" y="6324480"/>
            <a:ext cx="228600" cy="3049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Line 70"/>
          <p:cNvSpPr/>
          <p:nvPr/>
        </p:nvSpPr>
        <p:spPr>
          <a:xfrm>
            <a:off x="6858000" y="6324480"/>
            <a:ext cx="2286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Line 71"/>
          <p:cNvSpPr/>
          <p:nvPr/>
        </p:nvSpPr>
        <p:spPr>
          <a:xfrm flipH="1">
            <a:off x="6857640" y="6324480"/>
            <a:ext cx="1522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Text Box 72"/>
          <p:cNvSpPr/>
          <p:nvPr/>
        </p:nvSpPr>
        <p:spPr>
          <a:xfrm>
            <a:off x="7224120" y="621360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 need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Rectangle 74"/>
          <p:cNvSpPr/>
          <p:nvPr/>
        </p:nvSpPr>
        <p:spPr>
          <a:xfrm>
            <a:off x="8915400" y="6248520"/>
            <a:ext cx="228600" cy="3808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orexia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a serious eating disorder which mainl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ffects young gir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related to bulimia,another eating dis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rexics believe they need to lose weight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inually diet to do 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a psychological problem and in extrem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s can lead to dea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affects of alcohol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is a dru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ffects your brain by bloc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ssages to your sens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slows down your react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is measured in uni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e unit of alcohol consists of  a) a small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isky, b)a glass of wine, c) a half pint of beer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effects of alcohol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problems at wor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mood changes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press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money troub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affect personal safe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death in extrem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ealthy Bodies Unit 5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the end of this unit you should 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 able to name 3 aspects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regular exercise improves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 able to describe the differences between th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 aspects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1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amina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can be described as having staying pow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in which you need to have stamina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clude swimming ,jogging , rowing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ycl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heart and lungs need to be in good wor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very rate is usually quick from exerci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2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rengt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uscles need to be strong and in goo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king 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include  weight lifting, rowing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wimming and gymnasti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3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pplenes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body can be capable of being moved into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erent positions without being stiff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ts of stretching exercises are needed to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rove this aspect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needing suppleness include dancing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ymnastics, judo, swimming and yog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old  Blooded Animals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imals like lizard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annot make enough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t from their foo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enable them to b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rmer than thei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ir bod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emperature is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ame as thei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old Blooded Animals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tend to be more active during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a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tropical fish from the Amazon woul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t survive in Scotlan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rm Blooded Animals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rm bloode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imals lik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mma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keep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ir body at a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onstan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emperature no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tter where the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rm Blooded Animals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umans are warm blooded animals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ave a constant temperature of 37 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Our bodies are able to make and lose h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e can lose excess heat by sweating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Fev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f your body temperature goes above 37 C,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n you are suffering from a fev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 tend to sweat a lot as the body tries to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ring your temperature dow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ost increases in temperature are caused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fe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ypothermia 1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happens when the body falls below a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ertain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f the body is too low in temperature fo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oo long, it can result in dea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 mostly occurs with elderl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eop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ypothermia 2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following are signs of hypothermia and actions to be tak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590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lurring of speec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Physically inactiv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kin become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low to reac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ntal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usual behavi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rap in war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lanke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Give a war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weet drink bu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NOT alcoho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,4,5 Increase ro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 heating slow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5T14:30:48Z</dcterms:created>
  <dc:creator>Catherine</dc:creator>
  <dc:description>Cold  Blooded Animals 1.</dc:description>
  <cp:keywords>Cold  Blooded Animals 1.</cp:keywords>
  <dc:language>en-US</dc:language>
  <cp:lastModifiedBy>LEGION2</cp:lastModifiedBy>
  <dcterms:modified xsi:type="dcterms:W3CDTF">2016-01-14T09:35:29Z</dcterms:modified>
  <cp:revision>22</cp:revision>
  <dc:subject>Cold  Blooded Animals 1.</dc:subject>
  <dc:title>Cold  Blooded Animals 1.</dc:title>
</cp:coreProperties>
</file>